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23C7F-A82E-4279-B81F-6856999C9C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Droid Sans"/>
              </a:rPr>
              <a:t>Test notes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B0C-5894-47FE-866A-688494E2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CC0-3A49-4A08-9AC1-07D81145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6C1-9FED-4C83-A394-AEA69068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136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9080" y="176796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136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9080" y="4056840"/>
            <a:ext cx="28548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E49-2E0E-4332-965D-B7212283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DA5E-646E-4C7B-A794-A439D645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E3B6-DD5B-4520-9F58-A601415C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9B4-53DA-4548-AFC9-29B48DCB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0EE4-3288-4324-B54D-8B7CF80E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34A-A093-437B-86CE-6ECEC17B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114-2F57-4B9E-B464-962DB48D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6480" y="405684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ED2F-D849-4001-B3EB-BEED6593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6480" y="1767960"/>
            <a:ext cx="43264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88660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9B2C-9E65-4C4A-AB1A-49E7D1AB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60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7758B-B006-4B26-9317-FF87903BE01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il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40:01Z</dcterms:created>
  <dc:creator>Mihai Dinca</dc:creator>
  <dc:description/>
  <dc:language>en-US</dc:language>
  <cp:lastModifiedBy/>
  <cp:revision>0</cp:revision>
  <dc:subject/>
  <dc:title/>
</cp:coreProperties>
</file>