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D2417-3459-4DDB-A1C6-5016B2B078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roid Sans"/>
              </a:rPr>
              <a:t>Test notes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2A62-8687-466B-89FE-C6FF4DD0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B1C0-CEAD-4B97-8A1F-011ACFF9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8B15-6438-4D1C-88A4-538E4DD1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0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0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7E2A-64B2-4C1B-9D18-FD88080A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4B36-2071-4395-9A81-6E87C630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E53-E24D-41C8-BC7E-A8332330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8A1-D21D-45F4-B3F3-57754DD1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35D8-0E30-4121-BC91-92302BBA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442-E1A7-4690-B9BF-B5062EB2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26A0-B759-4883-89CC-AD057E92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117-3105-4027-B958-722FE408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AA0-E724-4949-A3CC-4EA37D49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87187-95B5-451E-984C-6BC48601257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fil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2:40:01Z</dcterms:created>
  <dc:creator>Mihai Dinca</dc:creator>
  <dc:description/>
  <dc:language>en-US</dc:language>
  <cp:lastModifiedBy/>
  <cp:revision>0</cp:revision>
  <dc:subject/>
  <dc:title/>
</cp:coreProperties>
</file>