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F9D5A-F59C-4BA2-9501-ECCC6722E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roid Sans"/>
              </a:rPr>
              <a:t>Test notes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56C-8A46-40FF-BD0B-A47357E5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FDD-DB39-4C0F-AE20-D73B267D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E22-FA65-4BB8-BBA2-BC97F388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784-FA0C-4C7B-AB2D-1768C1E7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CA8-31A5-4988-B18A-84BAA492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451-77C1-4CC3-870E-2E07E5CB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701-24F0-4D15-A099-31D2A690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7C8-62B4-4E67-A5BD-8A1E4109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6B7-F1F4-493C-9882-DD8F3F36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88F-CCAE-4DEE-80D0-1F3EAFD5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A90-F499-47FF-87FD-7B995820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D3B-FD55-4F10-9E3D-43F3CC76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CD953-0DD8-484E-8757-08755635EF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i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40:01Z</dcterms:created>
  <dc:creator>Mihai Dinca</dc:creator>
  <dc:description/>
  <dc:language>en-US</dc:language>
  <cp:lastModifiedBy/>
  <cp:revision>0</cp:revision>
  <dc:subject/>
  <dc:title/>
</cp:coreProperties>
</file>