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FB499-044A-4ADA-8A27-5F9DCEF31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roid Sans"/>
              </a:rPr>
              <a:t>Test notes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267-CB60-48A7-8617-13EE5C91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6CF-F9CB-4F28-84E4-8E068F67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C78-5A49-4AE9-B6E3-85684EC3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78A-57CC-4095-8E16-56A94114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658-CFAF-419B-8A53-FB86025E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C3C-B859-45C3-9E41-AA514479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324-9430-420D-8446-E24A7D72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26D-2D71-4E51-AAB0-B6D25916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FAE-C023-483F-ACEC-92341E2F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79C-0A7A-4637-8FDE-19B0413F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A17-BDC0-4A59-9B6A-5B84E316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06B-FE91-426F-8EDC-FB1DF83E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FDB1F-D435-4B46-B1DB-0F6B110671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40:01Z</dcterms:created>
  <dc:creator>Mihai Dinca</dc:creator>
  <dc:description/>
  <dc:language>en-US</dc:language>
  <cp:lastModifiedBy/>
  <cp:revision>0</cp:revision>
  <dc:subject/>
  <dc:title/>
</cp:coreProperties>
</file>