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37D-D020-4DC8-B696-84ECFC58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EAE-0D04-4DF9-8E93-710FE45D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A42-F1F2-44EA-921A-904628C2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8BE-7836-4A08-9C81-BF02A6BE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91B7-8BF2-4FCC-AE7B-F6550888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CCB-8684-4315-AB15-FFD5EBB1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15A3-C518-44E9-8E83-EABBD83E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931-3EF2-484E-90CA-28267921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33D-EBEC-4733-B4E2-62B4B5E5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5DD-0D94-42C5-A19A-899CFCCC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63F-75D5-43D8-95DE-F67E9119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F31-4BDD-44BB-B4B7-46C46EB2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3562-43AB-4DD4-9E2D-6D8A5DF5B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059680" cy="147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line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del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ven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1977840" cy="4681440"/>
        </p:xfrm>
        <a:graphic>
          <a:graphicData uri="http://schemas.openxmlformats.org/drawingml/2006/table">
            <a:tbl>
              <a:tblPr/>
              <a:tblGrid>
                <a:gridCol w="197784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arch for available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a model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y a model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348000" y="3068640"/>
            <a:ext cx="4896000" cy="245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roductio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78200" y="2060640"/>
            <a:ext cx="316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ee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059680" cy="147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line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del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ven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00" y="1700280"/>
          <a:ext cx="1977840" cy="4681440"/>
        </p:xfrm>
        <a:graphic>
          <a:graphicData uri="http://schemas.openxmlformats.org/drawingml/2006/table">
            <a:tbl>
              <a:tblPr/>
              <a:tblGrid>
                <a:gridCol w="197784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arch for available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a model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y a model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348000" y="3068640"/>
            <a:ext cx="4896000" cy="245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ructions text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059680" cy="147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line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del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ven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1700280"/>
          <a:ext cx="1977840" cy="4951440"/>
        </p:xfrm>
        <a:graphic>
          <a:graphicData uri="http://schemas.openxmlformats.org/drawingml/2006/table">
            <a:tbl>
              <a:tblPr/>
              <a:tblGrid>
                <a:gridCol w="1977840"/>
              </a:tblGrid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arch for available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a model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y a model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14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059280" y="3933720"/>
            <a:ext cx="4895640" cy="258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ults: list of models including theme and other topics that where search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e full template by clicking on additional button or ti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78200" y="2060640"/>
            <a:ext cx="316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ee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2852640"/>
            <a:ext cx="3168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vanced search or listing (by theme, by coverage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059680" cy="147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line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del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ven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1700280"/>
          <a:ext cx="1977840" cy="4681440"/>
        </p:xfrm>
        <a:graphic>
          <a:graphicData uri="http://schemas.openxmlformats.org/drawingml/2006/table">
            <a:tbl>
              <a:tblPr/>
              <a:tblGrid>
                <a:gridCol w="197784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arch for available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a model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y a model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2700360" y="1844640"/>
            <a:ext cx="540072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w to“ text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3213000"/>
            <a:ext cx="5400720" cy="116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´m the modeller/responsible yes / no (mandat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mail (mandatory)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this information is for use by EEA only and will not be made available to third par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ments (not mandat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4797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ty temp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059680" cy="14702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line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del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nven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24000" y="1700280"/>
          <a:ext cx="1977840" cy="4681440"/>
        </p:xfrm>
        <a:graphic>
          <a:graphicData uri="http://schemas.openxmlformats.org/drawingml/2006/table">
            <a:tbl>
              <a:tblPr/>
              <a:tblGrid>
                <a:gridCol w="197784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arch for available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a model 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y a model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2700360" y="1989000"/>
            <a:ext cx="540072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ow to“ text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7280" y="3500280"/>
            <a:ext cx="5400720" cy="181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me of th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´m the modeller/responsible yes / no (mandat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´m a user yes / no (mandat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mail (mandatory)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this information is for use by EEA only and will not be made available to third par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5877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mplate of the respect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5:29:55Z</dcterms:created>
  <dc:creator>Annekathrin Jaeger</dc:creator>
  <dc:description/>
  <dc:language>en-US</dc:language>
  <cp:lastModifiedBy>Annekathrin Jaeger</cp:lastModifiedBy>
  <dcterms:modified xsi:type="dcterms:W3CDTF">2009-02-06T17:48:04Z</dcterms:modified>
  <cp:revision>8</cp:revision>
  <dc:subject/>
  <dc:title>Online Model Invent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57948925</vt:r8>
  </property>
  <property fmtid="{D5CDD505-2E9C-101B-9397-08002B2CF9AE}" pid="3" name="_AuthorEmail">
    <vt:lpwstr>Annekathrin.Jaeger@eea.europa.eu</vt:lpwstr>
  </property>
  <property fmtid="{D5CDD505-2E9C-101B-9397-08002B2CF9AE}" pid="4" name="_AuthorEmailDisplayName">
    <vt:lpwstr>Annekathrin Jaeger</vt:lpwstr>
  </property>
  <property fmtid="{D5CDD505-2E9C-101B-9397-08002B2CF9AE}" pid="5" name="_EmailSubject">
    <vt:lpwstr>online model inventory</vt:lpwstr>
  </property>
  <property fmtid="{D5CDD505-2E9C-101B-9397-08002B2CF9AE}" pid="6" name="_NewReviewCycle">
    <vt:lpwstr/>
  </property>
</Properties>
</file>