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88B-2BBF-4D82-83C3-79DDB483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1F7-EF54-4871-B491-C7D27C6E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6F8-0483-49C0-BA40-E5FEA696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F57-01D0-4260-8E31-C00EF172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A2D-71A1-4741-9EE6-321E2AAD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972-F81B-4205-B1F1-B05B9F1E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A4F-075D-493D-BC02-A3B5994D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4D5-FCE8-4AF4-A093-A646B771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758-F8CC-488A-AE4B-F991BB25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F70-602F-4665-B3B0-35768D51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26D7-C340-47C6-A623-53952B14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F2F-79BD-481C-98F1-5B1DF670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8022-474C-4A1C-82D4-73A6CC92D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5968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del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1977840" cy="4681440"/>
        </p:xfrm>
        <a:graphic>
          <a:graphicData uri="http://schemas.openxmlformats.org/drawingml/2006/table">
            <a:tbl>
              <a:tblPr/>
              <a:tblGrid>
                <a:gridCol w="19778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 for available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y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348000" y="3068640"/>
            <a:ext cx="4896000" cy="24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oduc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78200" y="206064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5968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del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1700280"/>
          <a:ext cx="1977840" cy="4681440"/>
        </p:xfrm>
        <a:graphic>
          <a:graphicData uri="http://schemas.openxmlformats.org/drawingml/2006/table">
            <a:tbl>
              <a:tblPr/>
              <a:tblGrid>
                <a:gridCol w="19778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 for available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y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348000" y="3068640"/>
            <a:ext cx="4896000" cy="24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ructions text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5968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del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700280"/>
          <a:ext cx="1977840" cy="4951440"/>
        </p:xfrm>
        <a:graphic>
          <a:graphicData uri="http://schemas.openxmlformats.org/drawingml/2006/table">
            <a:tbl>
              <a:tblPr/>
              <a:tblGrid>
                <a:gridCol w="1977840"/>
              </a:tblGrid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 for available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y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059280" y="3933720"/>
            <a:ext cx="4895640" cy="25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ults: list of models including theme and other topics that where search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e full template by clicking on additional button or t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78200" y="206064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852640"/>
            <a:ext cx="3168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vanced search or listing (by theme, by coverage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5968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del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1700280"/>
          <a:ext cx="1977840" cy="4681440"/>
        </p:xfrm>
        <a:graphic>
          <a:graphicData uri="http://schemas.openxmlformats.org/drawingml/2006/table">
            <a:tbl>
              <a:tblPr/>
              <a:tblGrid>
                <a:gridCol w="19778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 for available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a model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y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2700360" y="1844640"/>
            <a:ext cx="5400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w to“ tex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213000"/>
            <a:ext cx="5400720" cy="116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´m the modeller/responsible yes / no (mandat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mail (mandatory)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this information is for use by EEA only and will not be made available to third par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ents (not mandat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797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ty temp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5968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del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1700280"/>
          <a:ext cx="1977840" cy="4681440"/>
        </p:xfrm>
        <a:graphic>
          <a:graphicData uri="http://schemas.openxmlformats.org/drawingml/2006/table">
            <a:tbl>
              <a:tblPr/>
              <a:tblGrid>
                <a:gridCol w="19778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 for available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y a model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2700360" y="1989000"/>
            <a:ext cx="5400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w to“ tex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3500280"/>
            <a:ext cx="5400720" cy="181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me of th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´m the modeller/responsible yes / no (mandat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´m a user yes / no (mandat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mail (mandatory)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this information is for use by EEA only and will not be made available to third par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5877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late of the respect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5:29:55Z</dcterms:created>
  <dc:creator>Annekathrin Jaeger</dc:creator>
  <dc:description/>
  <dc:language>en-US</dc:language>
  <cp:lastModifiedBy>Annekathrin Jaeger</cp:lastModifiedBy>
  <dcterms:modified xsi:type="dcterms:W3CDTF">2009-02-06T17:48:04Z</dcterms:modified>
  <cp:revision>8</cp:revision>
  <dc:subject/>
  <dc:title>Online Model Inven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7948925</vt:r8>
  </property>
  <property fmtid="{D5CDD505-2E9C-101B-9397-08002B2CF9AE}" pid="3" name="_AuthorEmail">
    <vt:lpwstr>Annekathrin.Jaeger@eea.europa.eu</vt:lpwstr>
  </property>
  <property fmtid="{D5CDD505-2E9C-101B-9397-08002B2CF9AE}" pid="4" name="_AuthorEmailDisplayName">
    <vt:lpwstr>Annekathrin Jaeger</vt:lpwstr>
  </property>
  <property fmtid="{D5CDD505-2E9C-101B-9397-08002B2CF9AE}" pid="5" name="_EmailSubject">
    <vt:lpwstr>online model inventory</vt:lpwstr>
  </property>
  <property fmtid="{D5CDD505-2E9C-101B-9397-08002B2CF9AE}" pid="6" name="_NewReviewCycle">
    <vt:lpwstr/>
  </property>
</Properties>
</file>